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16B8-127A-4958-8F94-CD8489D1B0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ый момент – это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ей-заповедник "Овстуг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7998-09A8-4B96-9061-5331E18215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DDA-C17C-4DE0-9ECF-A794218C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867-96FE-4466-9199-FE5853EF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C86-ED27-498F-AE84-387F4A32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D62-EC7F-4C3B-8456-184A9FB1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969-304D-444A-8CBD-53B54523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07D-C46E-4B67-83C2-583888AE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A23-EF17-43FF-A5FC-DD03A8B2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0F8-D993-4239-BBD3-F5A57AD9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60B-3B67-4FA5-B642-53584BF9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7192-AD07-4326-9905-98D0F643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49E-9ED3-4D3F-9447-BFE7C461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5FB-CCD9-4D85-BADE-9E6DC0D1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1082-E20B-4686-8B2F-8769566252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nnel.ru/?l=gzl&amp;uid=147" TargetMode="External"/><Relationship Id="rId2" Type="http://schemas.openxmlformats.org/officeDocument/2006/relationships/hyperlink" Target="http://upload.wikimedia.org/wikipedia/commons/2/29/Tyutchev_memorial_Bryansk.jpg" TargetMode="External"/><Relationship Id="rId3" Type="http://schemas.openxmlformats.org/officeDocument/2006/relationships/hyperlink" Target="http://upload.wikimedia.org/wikipedia/commons/1/18/MonumentTutchev.JPG" TargetMode="External"/><Relationship Id="rId4" Type="http://schemas.openxmlformats.org/officeDocument/2006/relationships/hyperlink" Target="http://upload.wikimedia.org/wikipedia/commons/1/18/MonumentTutchev.JPG" TargetMode="External"/><Relationship Id="rId5" Type="http://schemas.openxmlformats.org/officeDocument/2006/relationships/hyperlink" Target="http://upload.wikimedia.org/wikipedia/commons/d/d9/Owstug.JPG" TargetMode="External"/><Relationship Id="rId6" Type="http://schemas.openxmlformats.org/officeDocument/2006/relationships/hyperlink" Target="http://www.hrono.ru/biograf/bio_t/tjutchev_fi.php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графия и творчество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ёдора Ивановича Тютчева</a:t>
            </a:r>
            <a:br>
              <a:rPr sz="4400"/>
            </a:b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к уроку литературного чтения 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1-4 классы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Любой УМК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71680" y="150012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428920" y="59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Умер  Федор Иванович в Царском Селе 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15 июня 1873 года,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 похоронен на Новодевичьем кладбище 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Петербурге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714680" y="2428920"/>
            <a:ext cx="5715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поэту в Овсту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714760" y="1428840"/>
            <a:ext cx="37144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714760" y="1071720"/>
            <a:ext cx="3429000" cy="5200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в Брян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tonnel.ru/?l=gzl&amp;uid=1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Тютчеву Ф.И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upload.wikimedia.org/wikipedia/commons/2/29/Tyutchev_memorial_Bryans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upload.wikimedia.org/wikipedia/commons/1/18/MonumentTutch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в Овстуг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upload.wikimedia.org/wikipedia/commons/d/d9/Owstu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hrono.ru/biograf/bio_t/tjutchev_fi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д у до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2003-07.photosight.ru/22/25725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4format.ru/photo.open.php?file=448dbe6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har.ru/books/p80274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books.ru/img_cat/5081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zon.ru/multimedia/books_covers/100024615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ское Сел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12.nnm.ru/5/5/e/f/d/776f795c0ea50fdd041a526f13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юнхе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ia-pr.de/rusindex/o_nas/tutchev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ёдор Иванович Тют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3741480" cy="45734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>
            <a:hlinkClick r:id="rId2" action="ppaction://hlinksldjump"/>
          </p:cNvPr>
          <p:cNvSpPr/>
          <p:nvPr/>
        </p:nvSpPr>
        <p:spPr>
          <a:xfrm>
            <a:off x="4357800" y="1714680"/>
            <a:ext cx="46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3 г. – 1873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пло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лен-корреспондент Петербургской 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>
            <a:hlinkClick r:id="rId1" action="ppaction://hlinksldjump"/>
          </p:cNvPr>
          <p:cNvSpPr/>
          <p:nvPr/>
        </p:nvSpPr>
        <p:spPr>
          <a:xfrm>
            <a:off x="285840" y="500040"/>
            <a:ext cx="5572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Родился 23 ноября (1803 г.) в усадьбе Овстуг Орловской губернии в стародворянской сем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Раннее детство Тютчева протекало в Овстуге. Мальчик жил в мире фантазии. Для него словно не существовало грани между мечтой и реальной действительност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429160" y="2000160"/>
            <a:ext cx="32068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Овстуг — родовое имение Тютчевых, где 23 ноября 1803 года родился 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0" t="0" r="0" b="4255"/>
          <a:stretch/>
        </p:blipFill>
        <p:spPr>
          <a:xfrm>
            <a:off x="714240" y="1428840"/>
            <a:ext cx="771552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28760" y="428760"/>
            <a:ext cx="5214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ервоначальное образование Феденька Тютчев получил дома. Он обучался истории, географии, арифметике, русскому и иностранным языкам — французскому, немецкому и латинском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857920" y="3357720"/>
            <a:ext cx="2541600" cy="307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357960" y="571680"/>
            <a:ext cx="19051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00040" y="428760"/>
            <a:ext cx="4929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возрасте 16 лет поступил  в Московский университ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том же году (1819) опубликовано его первое стихотв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286240" y="428760"/>
            <a:ext cx="3403800" cy="41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1643040" y="4714920"/>
            <a:ext cx="300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428760" y="285840"/>
            <a:ext cx="8715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Осенью 1821 года Тютчев заканчивает университет со степенью кандидата словесных наук. Он получает место сверхштатного чиновника (дипломата) русской миссии в Баварии. В июле 1822 года он отправляется в Мюнхен и проводит там 22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1143000" y="485784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е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л выдающийся российский поэт и дипломат  Федор Иванович Тют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714240" y="28584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оэзия Тютчева насчитывает немногим более 400 стихотворений. Одной из самых распространенных тематик  в творчестве поэта – приро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71680" y="3071880"/>
            <a:ext cx="590544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6573960" y="507204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адь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И. Тют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роизведения Фёдора 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2500200" cy="400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5643720" y="2214720"/>
            <a:ext cx="2979720" cy="390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3143160" y="1357200"/>
            <a:ext cx="242892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8:58:10Z</dcterms:created>
  <dc:creator>Galina</dc:creator>
  <dc:description/>
  <dc:language>en-US</dc:language>
  <cp:lastModifiedBy>Galina</cp:lastModifiedBy>
  <dcterms:modified xsi:type="dcterms:W3CDTF">2010-08-18T17:24:34Z</dcterms:modified>
  <cp:revision>46</cp:revision>
  <dc:subject/>
  <dc:title>Биография и творчество  Фёдора Ивановича Тютчева  3 класс 1 полугодие УМК «Школа России» </dc:title>
</cp:coreProperties>
</file>